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B02-211C-4B17-9FBC-68E7EC91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72A-0207-47EB-AF3B-8934B07A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DF5-6BA0-4ED1-9E31-CE056592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8C0-AAA9-4311-94A3-7165A1AA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48D9C-2512-496B-8890-0E36FABEEF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D0722-E059-4C1D-8D26-ACCCE4C2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6BC99-F3DD-45D4-B377-4A3D06E1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99909-0140-4952-BDAF-6FEB1426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E01D5-8BD1-419E-A8ED-C240322E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10148-B52A-47D4-93E7-9A88B81F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73B1B-6349-4C17-885A-EB00D268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BFB-FFC8-4594-BC4D-F23298CC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9F736-0F90-4CF2-BC83-72199944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6B409-F543-4882-9B4B-2EDA1EF8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1799F-10D7-499A-9439-897F42DB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BF464-01B9-47D8-8BDE-E80A862F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D1194-D6AC-4E08-B32E-DCB1771240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6EA-909D-4024-8E31-0457234C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433-80C0-4DC0-8C58-936E45A2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CE2-5345-47F4-AD54-94A68BA9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59F-5C69-4A42-AFD5-90160584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B1E-66C5-4EFB-AF0B-5FD3A1E9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C1C-365D-4EF5-AFBA-F46F0096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6A3-DED3-4820-9D62-9CBC0BC8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ba2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5280" y="333360"/>
            <a:ext cx="8353440" cy="1079640"/>
          </a:xfrm>
          <a:prstGeom prst="rect">
            <a:avLst/>
          </a:prstGeom>
          <a:solidFill>
            <a:srgbClr val="0000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400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1.09.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00000" y="6237360"/>
            <a:ext cx="482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chsen, Wellen und Zapfen                           Andrej Be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88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E55D-8D50-46B6-B6C1-249E41EFBF3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ba2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125360"/>
            <a:ext cx="8353440" cy="1944720"/>
          </a:xfrm>
          <a:prstGeom prst="rect">
            <a:avLst/>
          </a:prstGeom>
          <a:solidFill>
            <a:srgbClr val="0000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1. September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74EE-7E32-46FC-9FBE-4E6816D466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chsen, Wellen und Zap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3280" y="400500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wicklung und Konstr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drej 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ap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chszapfen werden auf Biegung beanspru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llenzapfen werden auf Torsion bzw. Torsion und Biegung beanspru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zelzapfen (Spurzapfen, Kugelzapfen) werden auf Flächenpressung und zusätzlich auf Biegung beanspruch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288144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3236760" cy="1440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02480" y="5372280"/>
            <a:ext cx="41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 11-17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a) Achszapfen, b), c) und d) Wellenzapf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oloff/Matek S.35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37E-BF4A-4CF1-94BD-733DD31BEF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en und Entwer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ufgaben des Konstrukteurs si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leine Abmessungen anstr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uerbruchgefahr beseit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fache und kostensparende Fer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onstruktive Maßnahmen sind oft entscheidender als Verwendung von Werkstoffen höherer Festigkeit (z.B. Vermeidung von Kerbstell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D2B6-C053-499F-8E5A-86E152F7CC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Gedrängte Bauweise: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leine Rad- und Lagerabstände anstreben, um kleine Biegemomente und Durchmesser zu errei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durch können Größe, Gewicht und Kosten der Gesamtkonstruktion verringert wer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i vorgegebenen Lagerabständen sowie Torsions- und Biegemomenten können Achsen/ Wellen für den Entwurf genau berechnet wer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2FC9-D9F4-4296-A0D5-5578C90031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rbwirkung verm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 schärfer die Kerbform, umso größer die Spannungsspi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lenübergänge ohne Schulter festigkeitsmäßig am günstigsten, aufgeschrumpfte Naben von der Übergangsstelle etwas zurücks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16000" y="4508640"/>
            <a:ext cx="2303640" cy="122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07040" y="546732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4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Wellenübergang ohne Schu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F15-3096-4B55-A71B-1192BE99E1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abgesetzten Zapfen das Verhältni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D/d = 1,4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überschreiten (Schwächung der Achse/ W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ergänge gut runden mit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 = d/20….d/1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ode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B 11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direkt an den Wellenschultern sitzenden Wälzlagern die Rundungsradien beachten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TB 14-1/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il- und Passfedernuten bei Umlaufbiegung nicht bis an die Übergänge heranführen (erhöhte Dauerbruchgefahr durch die Kerbwirkungen aus beiden Querschnittsveränderu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4869000"/>
            <a:ext cx="2784600" cy="1373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24360" y="5445000"/>
            <a:ext cx="17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 11-3a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Zapfenüberg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oloff/Matek S.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C67-6B4D-49DE-A3DA-9CA1F412AA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äder und Scheiben gegen axiales Verschieben durch Distanzscheiben oder –hülsen, Stellringe oder Wellenschultern sic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cherungsringe an der Welle vermeiden, möglichst nur an den Wellenenden anord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uten kürzer als Naben ausführen, damit Distanzhülsen einwandfrei an der Nabe anlieg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4581360"/>
            <a:ext cx="3456000" cy="1386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263840" y="4869000"/>
            <a:ext cx="2751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estlegen von Rädern bz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hei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) durch Distanzhüls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) durch Wellenschulte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721-1CEA-4C4B-92F9-2504C1F96D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ch Möglichkeit Fertigwellen/Achsen verwenden, um die Fertigungskosten zu sp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ststehende Achsen gegenüber umlaufenden bevorzugen wegen günstiger Beanspruchungsverhält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ger dicht an Scheiben und Räder setzen, um die Durchbiegung klein zu hal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47A-B1C9-446E-AC98-8A9BB3EDF2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ie Steifigkeit der Welle/ Achse konstruktiv zu verbessern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öglichst kurze Abmaße (geringere Biegemo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nge Achsen/Wellen wenn möglich zwischenlagern (gleichmäßige Verteilung der Biegemomente auf der Welle/Ach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ohlachse/-welle bevorzugen wegen deutlich höheren Widerstandsmoments bei gleichem Querschnitt als             Vollachse/-w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Vorteil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Gewichtserspar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achteil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höhere Fertigungskost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ECC-9C14-448B-AF33-9A37294DE4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r Fest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ale Führung der Achsen und Wellen durch Ansatzflächen der Lagerzapfen oder Stellringe sich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usreichend Spiel vorsehen, um ein Verspannen bei Wärmedehnung zu vermeiden oder Einbauungenauigkeiten auszugleic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3600360" cy="1009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3600360" cy="108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971640" y="5229360"/>
            <a:ext cx="3600360" cy="100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3280" y="5516640"/>
            <a:ext cx="332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6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Axiale Führung von Achsen und Well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) durch Wellenschultern, b) durch Stellring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) bei mehrfacher Lag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A3A-C469-40CB-8CD2-0B21216698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s elastischen Verhal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gemein ist eine hohe kritische Drehzahl anzustreben, mindestens 10-20% über der Betriebsdreh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he kritische Drehzahl wird erreicht du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 möglichst dicht an umlaufende Räder usw. setzen, um die Durchbiegung klein zu 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i langen Wellen auf Verdrehung (Torsion) a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llen mit umlaufenden Teilen  bei hohen Drehzahlen sorgfältig auswuchten (hohe Fliehkräf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mlaufende Scheiben, Räder usw. leicht bau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kleines Massenträgheitsmoment und geringere Durchbiegung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B4E-B316-4B5A-A8CD-A9F4FB6FED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haltsverzeich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l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unktion und Wirk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estaltungsgrundsät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ritische Drehzah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rkstoffe und Halbze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rec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19E-61C7-4381-9B77-599E70BAE9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s elastischen Verhal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rmung bei Torsionsbeanspr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urch die Verformung in der Welle gespeicherte Formänderungsarbeit erzeugt Schwingungen bei Drehmomentenschwank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u großer Verdrehwinkel ergibt eine niedrige kritische Drehz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zul. Verdrehwinkel 0,25°- 0,5° je m Wellenlän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2158920" cy="172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404880" y="5540400"/>
            <a:ext cx="234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24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Elastische Verform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Torsionsbeanspruchu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6F4-472E-46DA-B035-FEE8FDFC86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staltungsregeln hinsichtlich des elastischen Verhal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rmung bei Biegebeanspr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biegung und Neigung werden bestimmt du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t, Größe und Lage der hierfür maßgebende Kräf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lastische Eigenschaften des Wellen- oder Achsenwerkstoff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zul. Neigung/ Durchbiegung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B 11-5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1640" y="4653000"/>
            <a:ext cx="3313080" cy="1440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340160" y="5540400"/>
            <a:ext cx="234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25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Elastische Verform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Biegebeanspru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F22-F555-4E44-B064-0B48AA3302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ritische Drehzahl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wingungen, Resona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 Körper z.B. Federstab wird durch kurzzeitig wirkende Kraft elastisch verfor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Entlastung wird der Körper durch gleichgroße Rückstellkraft in Biegeschwingungen ver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Schwingungsfrequenz ist umso größer, je größer die Elastizität und je kleiner die Masse des Körpers (Eigenfrequenz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550-F1E9-4CFF-ABAE-8E3E593219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ritische Drehzahl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wingungen, Resona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 Überlagerung der Erregerfrequenz mit der Eigenfrequenz (Resonanz) werden die Schwingungsausschläge nach jedem Anstoß größer, so dass u.U. ein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ruc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intreten k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Drehschwingungen kann es zu gleichen Erscheinungen k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ßnahmen: Welle und umlaufende Teile auswuchten, Steifigkeit erhöhe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076720" y="443700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11E-63C2-4755-AD93-7B8488A891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erkstoffe und Halbze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hsen und Wellen können ohne Nacharbeit aus geraden blanken Rundstäben hergestellt werden (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B 1-6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rkstoffe und Halbzeuge sollen aus wirtschaftlichen Gründen nicht hochwertiger als erforderlich gewäh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normal beanspruchte Achsen und Wellen können unlegierte Baustähle gewäh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höher beanspruchten Wellen sind Vergütungsstähle und bei Beanspruchung auf Verschleiß Einsatzstähle vorzuziehen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TB 1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649-4367-442B-B4DC-9C6A565CC6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rechn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überschlägig ermittelten Durchmesser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d`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ind sinnvoll auf den Entwurfsdurchmesser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zur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Abmessungen der dazugehörigen Normteile sind zu berücksicht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chließende Durchführung der Sicherheitsnachwe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71640" y="3716280"/>
            <a:ext cx="2160360" cy="2233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76720" y="3716280"/>
            <a:ext cx="2016000" cy="2233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97760" y="5445000"/>
            <a:ext cx="179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ild 11-22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rechnerisc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urchmes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8D9-0B32-4A8B-AD99-AB6724FB12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rechnungsform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mittlung der Achsendurchmesse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1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mittlung der Wellendurchmesse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5-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cherheitsnachweis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19-20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 11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rmung bei Torsionsbeanspruchung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21-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rmung bei Biegebeanspruchung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24-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iegekritische Drehzahl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FS 11/ 41-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drehkritische Drehzah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(FS 11/ 44-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08C-93F3-494F-8EFB-2B70D192FC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Qu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oloff/Matek: Maschinenelemente, Lehrbuch und Tabellenbuch; Vieweg Verlag, 19. Auflage, 2009, ISBN 978-3-8348-0689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oloff/Matek: Maschinenelemente, Formelsammlung; Vieweg Verlag, 9. Auflage, 2008, ISBN 978-3-8348-0534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lfred Böge: Handbuch Maschinenbau; Vieweg Verlag, 18. Auflage, 2007, ISBN 978-3-8085-1724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abellenbuch Metall; Europa Lehrmittel Verlag, 44. Auflage, 2008, ISBN 978-3-8085-1724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chkunde Metall; Europa Lehrmittel Verlag, 53. Auflage, 1999,    ISBN 3-8085-1153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abendblatt.de/ratgeber/wissen/article947506/Die-Schwachstelle-des-IC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479-DC82-4028-A419-4DE9DEC032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inl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chsen, Wellen und Zapfen begegnet man                häufig im Beruf und im Alltag (Autos, Fahrräder, Werkzeugmaschinen usw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s gibt unterschiedliche Bauarten und Größ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beanspruchung kann zu schwerwiegenden Folgen füh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5291280" cy="63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3B7-7E90-4E0A-9457-EEAF87B74A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childTnLst>
                                    <p:set>
                                      <p:cBhvr>
                                        <p:cTn id="6" dur="1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i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ntwurf und Gestaltung der Achsen/Wellen anhand der Grundlagenkenntni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imensionierung der Achsen/Wellen durch Berechn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icherheitsnachweis der ermittelten Dimensionieru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3A3-DF70-4546-85E9-1F55BAD645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finition: Ach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5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chsen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tabförmige Maschinenelemente zum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Trag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Lager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drehbaren Bauteilen (z.B. Laufräder, Seilroll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anspruchung auf Biegung durch Querkräf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6920" y="5516640"/>
            <a:ext cx="758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11-1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chsen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a) feststehende Achse, b) umlaufende Achse mit Achszapfe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oloff/ Matek S.3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9EB-6F7B-4D2A-ADF4-8798F5D904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chsen: Bau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55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773360"/>
            <a:ext cx="540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eststehende Achsen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rden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ruhend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oder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hwellend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auf Biegung beansprucht, die Maschinenteile (z.B. Seilrollen, Riemenscheiben) drehen sich lose auf der Ach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Vorteil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öhere Tragfähigkeit als bei umlaufenden Achsen gleicher Größ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005360"/>
            <a:ext cx="532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Umlaufende Achsen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rden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chselnd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auf Biegung beansprucht, die Maschinenteile sitzen fest auf der Ach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Vorteil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facherer Ein- und Ausbau sowie leichtere Wartung der L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Nachteil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eringere Tragfäh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33360" cy="1973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160360" cy="185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BA1-9FBD-49DE-B442-CAC931754E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finition: W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ellen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tabförmige Maschinenelemente, die z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Weiterleiten von Drehbewegungen und Drehmoment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ow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r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Lageru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rotierenden Teilen verwende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anspruchung auf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rs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zusätzlich auf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Biegu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3379680" cy="216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5661000"/>
            <a:ext cx="779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 11-1c: Well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mit Wellenzapfe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oloff/ Matek S.3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24B-AF02-4921-BFD0-09BD9B996C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ellen: Bau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3252960" cy="115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92720" y="3357720"/>
            <a:ext cx="3235320" cy="1126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292720" y="4797360"/>
            <a:ext cx="3236760" cy="1079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1989000"/>
            <a:ext cx="504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tarre Wellen: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um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Übertragen der Drehbewegungen auf die Zahnräder, Riemenscheiben, Kupplungen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lenkwellen: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zum Verbinden von nicht fluchtenden, in der Lage veränderlichen Wellenteilen mit großen Abständen            (z.B. Kraftfahrzeuge, Werkzeugmaschin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egsame Wellen: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zum Antrieb ortsveränderlicher Maschinen mit kleiner Leistung (z.B. Handschleifmaschin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485-0D95-44B3-8B8D-14D86232A5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finition: Zap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417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apfen: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nd die zum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Lager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meist abgesetz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chsen- und Wellenend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ch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inzelel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z.B. Spurzapfen, Kurbelzapfen)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3079800" cy="2746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24240" y="4724280"/>
            <a:ext cx="22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ild: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Zapfenar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U Fachkunde Metall S. 4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D62-0680-43ED-8C93-9EA33BAF1C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38:17Z</dcterms:created>
  <dc:creator>Berg</dc:creator>
  <dc:description/>
  <dc:language>en-US</dc:language>
  <cp:lastModifiedBy>siow0380</cp:lastModifiedBy>
  <dcterms:modified xsi:type="dcterms:W3CDTF">2010-09-18T14:21:40Z</dcterms:modified>
  <cp:revision>203</cp:revision>
  <dc:subject/>
  <dc:title>PowerPoint Presentation</dc:title>
</cp:coreProperties>
</file>